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138B-6683-429E-8DB8-40598639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3F28-F1A6-4DEC-BB0F-A76AC95B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E2CC-B0B0-4548-B8CF-AD262CD8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6AF-8295-401E-8CFD-5589FA02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18CB-E193-4E20-918F-3FAB5843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0C8-A46F-4969-9031-D1AE4040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950-475B-4684-BD33-F44DEE41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E92-EDE3-4E60-BD73-3D5C948B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7F39-AC0F-4310-BBAB-BCA53ABF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5F6-C8B8-4181-A71B-4B0C9426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C6AF-25F8-434E-8F18-D103823F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D297-5E22-4573-84D4-C9BC12EE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1105-15ED-47D6-8F76-52D261E8B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95280" y="933480"/>
            <a:ext cx="6400800" cy="4875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228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95280" y="1258920"/>
            <a:ext cx="678204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81080" y="1319040"/>
            <a:ext cx="5562720" cy="4530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228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Golgi Appar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1373040"/>
            <a:ext cx="541008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6483" r="0" b="0"/>
          <a:stretch/>
        </p:blipFill>
        <p:spPr>
          <a:xfrm>
            <a:off x="1371600" y="1741320"/>
            <a:ext cx="6248520" cy="3527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66680" y="228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Lys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28800" y="1077840"/>
            <a:ext cx="556272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33720" y="1076400"/>
            <a:ext cx="5105160" cy="4925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228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3514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2528" r="0" b="0"/>
          <a:stretch/>
        </p:blipFill>
        <p:spPr>
          <a:xfrm>
            <a:off x="1066680" y="942840"/>
            <a:ext cx="6858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95360" y="887400"/>
            <a:ext cx="63514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317600"/>
            <a:ext cx="861048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181160"/>
            <a:ext cx="7924680" cy="4411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66680" y="228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56272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5284" r="0" b="0"/>
          <a:stretch/>
        </p:blipFill>
        <p:spPr>
          <a:xfrm>
            <a:off x="1676520" y="1157400"/>
            <a:ext cx="5790960" cy="4809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66680" y="228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316160"/>
            <a:ext cx="609588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4789" r="0" b="0"/>
          <a:stretch/>
        </p:blipFill>
        <p:spPr>
          <a:xfrm>
            <a:off x="1905120" y="1170000"/>
            <a:ext cx="5209920" cy="5078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66680" y="228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Mitoch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1112760"/>
            <a:ext cx="533412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5104" r="0" b="0"/>
          <a:stretch/>
        </p:blipFill>
        <p:spPr>
          <a:xfrm>
            <a:off x="2057400" y="1309680"/>
            <a:ext cx="5105520" cy="451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66680" y="228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Chlorop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0:28:15Z</dcterms:created>
  <dc:creator>RZ</dc:creator>
  <dc:description/>
  <dc:language>en-US</dc:language>
  <cp:lastModifiedBy>RZ</cp:lastModifiedBy>
  <dcterms:modified xsi:type="dcterms:W3CDTF">2008-02-04T10:48:42Z</dcterms:modified>
  <cp:revision>1</cp:revision>
  <dc:subject/>
  <dc:title>PowerPoint Presentation</dc:title>
</cp:coreProperties>
</file>